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07660"/>
        <c:axId val="21293227"/>
      </c:barChart>
      <c:catAx>
        <c:axId val="69107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93227"/>
        <c:crosses val="autoZero"/>
        <c:auto val="1"/>
        <c:lblAlgn val="ctr"/>
        <c:lblOffset val="100"/>
        <c:noMultiLvlLbl val="0"/>
      </c:catAx>
      <c:valAx>
        <c:axId val="21293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7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EF1-79C6-41C6-8985-EF2A4879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40A-EF6F-4F55-9396-9E02CE0C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D61-FE48-43C8-A9FC-44615E77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63B-0A5A-4B5E-969F-714CB112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A6A-69EE-48D0-BF94-42628FCA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86A-6DA4-43D6-AF72-ABDA281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55F-4C49-43D0-B0EB-24F9361A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969-D56C-4CCF-9A31-8727E21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58F-9422-4423-92C3-2E01810E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B00-E953-4131-A24A-583E1BD3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1BD-D10A-42A0-8238-6CE8FB4D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B82-AFC0-44E8-A17F-C72769A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D4F98-DBB0-4D60-9A94-7534EDC29B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