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71675"/>
        <c:axId val="78291010"/>
      </c:barChart>
      <c:catAx>
        <c:axId val="89571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91010"/>
        <c:crosses val="autoZero"/>
        <c:auto val="1"/>
        <c:lblAlgn val="ctr"/>
        <c:lblOffset val="100"/>
        <c:noMultiLvlLbl val="0"/>
      </c:catAx>
      <c:valAx>
        <c:axId val="78291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71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CF3-015C-48AD-9B36-D108D480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BE4-9088-4B08-BED4-BC96F2A5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B14-865F-48A0-B4DA-ED1D226F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E9E-80C5-43AB-B6A8-898B8796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CE8-3821-45EF-B8E8-12559CA4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EBC-9AFF-4EE7-AB1E-AD70C246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29A-4CD0-4482-BEAD-9C140C4F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36D-F8CA-4171-96C2-3C42BC9F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845-0153-4B96-A7CA-16DCC633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D1C-8848-487F-B6CD-B32915D8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190-B351-4EC4-B861-D57F0946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675-0482-40D5-B2C2-4DFF6278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DF5A2-E511-4081-9862-9F1F2C9B2B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