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7729"/>
        <c:axId val="13607831"/>
      </c:barChart>
      <c:catAx>
        <c:axId val="1847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7831"/>
        <c:crosses val="autoZero"/>
        <c:auto val="1"/>
        <c:lblAlgn val="ctr"/>
        <c:lblOffset val="100"/>
        <c:noMultiLvlLbl val="0"/>
      </c:catAx>
      <c:valAx>
        <c:axId val="13607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7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3D8-B2C9-47E6-9D6A-A170C7AD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B26-9657-49D9-A560-72F0F961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53D-B341-4136-BFA6-9F3107B6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A81-E64C-47BE-9BE0-1226D558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9A3-0A45-4D4E-8C90-4621D43C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04D-278E-4AFC-9511-688CD0F7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EAB-CA21-4386-989A-210ABB5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5F5-46CF-4825-A5AC-4F717BE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779-8423-46DE-B8CB-0BFDE2A7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848-95B8-45A3-BD82-589A9EF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06F-7691-4BC5-B6CD-371B4D60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E3D-43AD-4C67-889C-28B6160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979B0-9E84-4354-8802-1D3D908F9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