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5797"/>
        <c:axId val="69563646"/>
      </c:barChart>
      <c:catAx>
        <c:axId val="6655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63646"/>
        <c:crosses val="autoZero"/>
        <c:auto val="1"/>
        <c:lblAlgn val="ctr"/>
        <c:lblOffset val="100"/>
        <c:noMultiLvlLbl val="0"/>
      </c:catAx>
      <c:valAx>
        <c:axId val="69563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5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84E-28E8-421A-B35F-9131966E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C26-AF53-4369-ABF1-1682968A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4DE-7CC2-4A95-AAA7-0ED60C45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E73-BBB4-4DBA-8FC9-203C8D81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2C2-FC77-4930-BF7B-24D46382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4E7-BB48-425F-81E5-7ABDBD36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17C-0A30-498F-BCE9-95719007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C9F-AB3E-4E95-A382-361A8B12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6B0-F2C8-4F2F-8126-265BCB77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2E7-4F36-4997-8887-8BD4E05F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82B-6D17-41E6-AEB3-4A3D4AD4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C6D-F8ED-40DA-AFD0-D53DD4F5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C3FAB-217E-4C46-9C7C-5B05511E10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