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77561"/>
        <c:axId val="24978257"/>
      </c:barChart>
      <c:catAx>
        <c:axId val="65777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78257"/>
        <c:crosses val="autoZero"/>
        <c:auto val="1"/>
        <c:lblAlgn val="ctr"/>
        <c:lblOffset val="100"/>
        <c:noMultiLvlLbl val="0"/>
      </c:catAx>
      <c:valAx>
        <c:axId val="24978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77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A29-E840-4CA4-93CA-C815D9E4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473-4867-496E-A398-B01D685D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A02-0AF5-4C22-B048-6023478D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669-4447-4687-81B5-1AF2AD88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DBC-A24E-4F84-A255-CE4BA326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D84-43D0-4B39-A119-24CFC234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F12-DD03-4910-A761-39149B24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846-3F02-426C-B558-6602D0E5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443-05B9-4CD6-9D62-18C897A1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DD1-7CFE-4543-B55C-0922EB11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E69-DD14-4342-8277-379632DB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3892-AB2D-40CA-AF4D-D1FB62D2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875CA-A057-4335-9517-D2BE44A622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