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78221"/>
        <c:axId val="26107026"/>
      </c:barChart>
      <c:catAx>
        <c:axId val="98478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7026"/>
        <c:crosses val="autoZero"/>
        <c:auto val="1"/>
        <c:lblAlgn val="ctr"/>
        <c:lblOffset val="100"/>
        <c:noMultiLvlLbl val="0"/>
      </c:catAx>
      <c:valAx>
        <c:axId val="26107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78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AB7-CD70-4EE8-AD85-61785DCE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F51-6C63-4988-BA7E-0D3DF6E4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F12-5206-473C-A561-8B227F16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353-1F5F-4241-9E36-AAED20E7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BCC-4403-456D-AB9A-B63F02AD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723-4420-4A24-A3E2-B78B9BFA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654-A4C5-49E1-8115-64A2E802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F3A-9A8C-4431-96EC-4276CFEB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ED8-5176-47B5-922F-35F799DA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B63-FF7C-41BE-8564-2A22D112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C6E-6B7D-45E2-9A64-118BA8F1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AE3-CBA3-45EE-8675-48077CF0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ECDC0-709D-45CF-A175-EF30097CA4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