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04589"/>
        <c:axId val="2759193"/>
      </c:barChart>
      <c:catAx>
        <c:axId val="39104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9193"/>
        <c:crosses val="autoZero"/>
        <c:auto val="1"/>
        <c:lblAlgn val="ctr"/>
        <c:lblOffset val="100"/>
        <c:noMultiLvlLbl val="0"/>
      </c:catAx>
      <c:valAx>
        <c:axId val="2759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04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262-CF34-4E1A-A09D-FF9BC5AB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CBB-BCEC-4C47-85E9-67FE29FA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059-964A-4EF9-946F-6634469F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ACC-1E69-4901-95C2-2F1AB77E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D87-E98A-4FAD-99F1-5EC65F7E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F09-07B1-4B83-A8EA-86DFA19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6A5-E4E3-4936-983D-600B4F65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653-B9F3-46AF-A1B4-E3431A87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947-F662-40EF-9446-E779C94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F6F-91D5-410D-AD8E-E926945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A29-697E-44E3-99C3-8207C92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335-34D7-4B78-9016-D091065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113D8-1508-4DE6-B741-F57416B5C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