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82734"/>
        <c:axId val="20313341"/>
      </c:barChart>
      <c:catAx>
        <c:axId val="89782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13341"/>
        <c:crosses val="autoZero"/>
        <c:auto val="1"/>
        <c:lblAlgn val="ctr"/>
        <c:lblOffset val="100"/>
        <c:noMultiLvlLbl val="0"/>
      </c:catAx>
      <c:valAx>
        <c:axId val="20313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82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2EF-41D8-4620-BCB1-51D87B48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249-2F59-4820-A75B-773E195F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E52-D071-4927-B859-ABBF558B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48A-D165-41B9-89A4-21CCE783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186-5BDB-4DFB-9B3E-E4D5C543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B3F-3DAD-407E-B929-4E8D591F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576-6F63-464E-8DC4-B5708C96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44C-E1E0-40A1-BA0E-5143EBF2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006-EFB9-48E7-95EB-64B520D2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4C3-0694-47AF-AD1A-8C443AA6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E77-745A-4A74-B2F5-FEBAD490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07F-CA96-469F-865B-956895D3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A5B72-15DD-47AF-9B3E-038E3244FD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