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62806"/>
        <c:axId val="9367149"/>
      </c:barChart>
      <c:catAx>
        <c:axId val="89962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7149"/>
        <c:crosses val="autoZero"/>
        <c:auto val="1"/>
        <c:lblAlgn val="ctr"/>
        <c:lblOffset val="100"/>
        <c:noMultiLvlLbl val="0"/>
      </c:catAx>
      <c:valAx>
        <c:axId val="9367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2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BFF-5D43-4D05-B7D6-6BC694D5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C39-6B9E-40FD-B163-28742325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B75-ED58-42E5-B5F9-7F20AEF1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0C7-4D3B-4D1A-A6B7-D84443DA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64F-6452-4653-B2D5-584B88D4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BB3-04F0-416A-8CBE-15873663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23C-52D2-4829-8C0C-ECEEB5BB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0BD-777A-4E92-B7B5-274A6710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EB2-E17E-493E-AB96-8B67301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641-0C70-4E04-BAA3-07B152C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F73-B002-4213-8636-141C975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E9D-4C42-430F-9478-D570B3A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C71FB-13F0-4410-A02F-CBBECD3B0A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