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3210"/>
        <c:axId val="20295677"/>
      </c:barChart>
      <c:catAx>
        <c:axId val="85583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5677"/>
        <c:crosses val="autoZero"/>
        <c:auto val="1"/>
        <c:lblAlgn val="ctr"/>
        <c:lblOffset val="100"/>
        <c:noMultiLvlLbl val="0"/>
      </c:catAx>
      <c:valAx>
        <c:axId val="2029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3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C2D-6016-4DDA-AFE7-8F0A94C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E65-F2C2-4867-B2C0-A63DAD3F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AEC-5535-479C-B7FE-A1F4B4E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F8D-4258-4D35-9E6B-CC2F8903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D6F-1DB9-4369-B409-AB8A7F66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87A-12E8-40B8-ADFF-0995811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1D5-24D0-4A77-8963-B58A7857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941-F5E4-4B95-83BC-4AA558A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FD3-96C6-41E1-9F33-91AAFD2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AC7-56F6-43D0-85DB-37021F4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846-5981-412B-9A2A-FF84E73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8E6-F567-468C-8CB3-6EA13CF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CFE11-0CA1-4D78-AA59-067472506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