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616120"/>
        <c:axId val="69660815"/>
      </c:barChart>
      <c:catAx>
        <c:axId val="336161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660815"/>
        <c:crosses val="autoZero"/>
        <c:auto val="1"/>
        <c:lblAlgn val="ctr"/>
        <c:lblOffset val="100"/>
        <c:noMultiLvlLbl val="0"/>
      </c:catAx>
      <c:valAx>
        <c:axId val="696608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6161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52AC-4F15-4B09-8770-250F0696E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0309-0B23-4002-A200-F5887CE9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31E9-55FF-4854-B74F-225982AF9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33B4-ED4E-4873-AE97-30E7FEDE6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5DC2-EE50-4A62-AB69-CB486FB5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F4B0-0650-462E-B75C-8CD718A0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9059-F44B-4D17-B5B5-3087B384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EDB0-0E6F-481C-B703-92C4B944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B1A4-5F00-46E8-8BAC-00F21867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D76A-1CB5-4C9C-8D2C-0275292C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FB3B-BFC5-4607-ADCE-B7AB51F8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8706-77FD-490F-A057-96FE585F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FF7D6A-64BC-48D2-AFF3-C8DFE009F9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