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13938"/>
        <c:axId val="16457914"/>
      </c:barChart>
      <c:catAx>
        <c:axId val="415139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57914"/>
        <c:crosses val="autoZero"/>
        <c:auto val="1"/>
        <c:lblAlgn val="ctr"/>
        <c:lblOffset val="100"/>
        <c:noMultiLvlLbl val="0"/>
      </c:catAx>
      <c:valAx>
        <c:axId val="164579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139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04F4-E087-4F93-97CA-BAB1FD20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9293-1A5D-4D0B-A53D-1D0F7800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B432-6DD1-40F2-903A-65F785A0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52CC-B523-4CF1-82FF-A521D479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E7B8-51A6-4E48-BBE3-70375142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E1D-7C12-40BD-9BF0-545AB0A6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C3C1-CE78-488E-BA4F-DA7534FC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4468-77CF-4D0C-AFCB-F2B4904E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BF0E-C33B-465E-84BF-045A0BB7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A48C-FE96-4F2E-B907-5ACFEE99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20EC-6C86-4D1C-AF91-D520C464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28DF-855C-44D4-8448-53CEA354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A57BD-A529-43B9-9FC3-BAB41366D2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