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73831"/>
        <c:axId val="72406516"/>
      </c:barChart>
      <c:catAx>
        <c:axId val="99873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06516"/>
        <c:crosses val="autoZero"/>
        <c:auto val="1"/>
        <c:lblAlgn val="ctr"/>
        <c:lblOffset val="100"/>
        <c:noMultiLvlLbl val="0"/>
      </c:catAx>
      <c:valAx>
        <c:axId val="72406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73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2B5-A1D9-4ACA-A08E-09F4F617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730-34A3-46FA-9572-CFE08A40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CFC-20F2-4DC3-916C-70C08514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3B3-097B-477D-B9D1-2481CB73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5C8-98EA-4156-BE6C-555649AB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0CA-70BD-474B-99DD-FA6E7FC9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5D3-AF27-4C01-A731-D93DDE95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4A5-C3AB-4F07-A1DB-A48AC7D8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F6C-B524-49A4-976B-5408458A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962-F92D-47B7-BDB1-77F63839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808-011B-4F28-9E1C-6174DE0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205-3AB3-45CC-99C5-97065E87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52CE7-FD84-455E-8820-96602452C6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