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88910"/>
        <c:axId val="76185862"/>
      </c:barChart>
      <c:catAx>
        <c:axId val="27688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85862"/>
        <c:crosses val="autoZero"/>
        <c:auto val="1"/>
        <c:lblAlgn val="ctr"/>
        <c:lblOffset val="100"/>
        <c:noMultiLvlLbl val="0"/>
      </c:catAx>
      <c:valAx>
        <c:axId val="76185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88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310-2982-4F17-B05A-7892B626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E7D-561A-436B-9828-2027F3FA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EA9-7F72-42BA-B7E2-0FB79D11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6A1-5124-4C4D-B6E2-367BC2AA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FE2-9132-4C5C-A25D-A1C147E5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A21-A31E-4AA3-B23A-C6A86D58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7AA-3630-4E34-8A29-8DFE99EA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A5A-C8B1-49E2-A6B1-BF887DB0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5F0-52DE-4828-B46F-0BBD2467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89F7-9CB4-4BA5-AC2D-88F71CAF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510-8611-490F-95B1-3DF0D9C4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1C9-2452-4CCD-B9A2-4B40C0DF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FFF47-1A75-4E58-99CD-0C7B13D34E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