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71209"/>
        <c:axId val="36648271"/>
      </c:barChart>
      <c:catAx>
        <c:axId val="23671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8271"/>
        <c:crosses val="autoZero"/>
        <c:auto val="1"/>
        <c:lblAlgn val="ctr"/>
        <c:lblOffset val="100"/>
        <c:noMultiLvlLbl val="0"/>
      </c:catAx>
      <c:valAx>
        <c:axId val="36648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1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ACC-E477-405C-8CF3-CF13150D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5A5-D4C8-4D12-803A-E71F84C9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A44-86BD-4653-B118-205DB650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4A8-EDB1-4326-A911-1C08F8AD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512-D25E-4544-8A25-56D2118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FFC-73EA-4C55-BEDE-E522568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E27-7622-417F-B124-2489358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DD8-C37F-4A11-B9E2-7EA0376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596-1DEF-4A4F-A6AE-063BA8E3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B2E-9994-49A1-BE04-9E47511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BDA-41D1-4D85-9D0A-223DF92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007-F433-4025-87F1-C74F3B5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B3518-A162-4013-A913-4BEAEAF3A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