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491095"/>
        <c:axId val="44836523"/>
      </c:barChart>
      <c:catAx>
        <c:axId val="624910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36523"/>
        <c:crosses val="autoZero"/>
        <c:auto val="1"/>
        <c:lblAlgn val="ctr"/>
        <c:lblOffset val="100"/>
        <c:noMultiLvlLbl val="0"/>
      </c:catAx>
      <c:valAx>
        <c:axId val="44836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910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8C7A-2C58-4984-9E99-3CB5DA3C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D7B-A799-4A8D-89DC-32C58A07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A946-94F9-46D6-BA2A-6F3C6807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682F-2CC6-4DEC-AA60-54D974F7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47E5-DD11-414D-9074-1D75BC87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DFA-F2ED-4939-8618-664C6D10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2B85-2C06-403D-AE18-C049D8C1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77CD-CCCF-4921-A161-409A04E2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48D-0E26-4352-8611-D96EEC39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4ED-DA4E-43A1-855D-CD99341F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B3B-8DBF-466E-8331-7CB7FBC2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9E6-BA09-4C53-8DB9-D8C6BB28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6D7A5-B32E-4148-9D19-092D846850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