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29002"/>
        <c:axId val="20866412"/>
      </c:barChart>
      <c:catAx>
        <c:axId val="46629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66412"/>
        <c:crosses val="autoZero"/>
        <c:auto val="1"/>
        <c:lblAlgn val="ctr"/>
        <c:lblOffset val="100"/>
        <c:noMultiLvlLbl val="0"/>
      </c:catAx>
      <c:valAx>
        <c:axId val="20866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29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3B7F-9EA7-4DA6-909D-2C58E66D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D26-0D61-412E-B497-CF92C653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4673-ACF2-44D9-92BE-7FEC5698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F9D-EEEE-418F-914A-A1EC0F36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DA9-331E-43B3-B6B3-5965B9B8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6CD-893B-4F57-B0C1-C4615B3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BB5-F141-42F9-A373-F6057477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921-6C90-4B66-80BE-1A6B8823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66C6-BA86-472B-85D2-2D4489AB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0A56-7CAF-46FF-A3BA-679C286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4CB-8C81-42D8-A8B9-B45C7FD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75E-4B1B-45A8-9E53-4B5380B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EF030-F87D-4AF1-8E2F-5382E2B1C3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