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10117"/>
        <c:axId val="88199574"/>
      </c:barChart>
      <c:catAx>
        <c:axId val="71610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99574"/>
        <c:crosses val="autoZero"/>
        <c:auto val="1"/>
        <c:lblAlgn val="ctr"/>
        <c:lblOffset val="100"/>
        <c:noMultiLvlLbl val="0"/>
      </c:catAx>
      <c:valAx>
        <c:axId val="88199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0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E1C-6ECC-42E3-8E5D-416C0DD1B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ADE-A483-4F6B-845B-8FFBEC35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288-59F9-4170-8533-FF052F5D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96B-E52E-4AB2-BD94-01559BE1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608-A4AE-4E24-89F1-9A14FFA6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152-F6B0-44A6-912B-60190720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C95-AE86-4372-9D42-696846AD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57F-2425-4D92-9182-7D88C0B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C898-3E7A-414C-AEEB-0A39BD09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FC0-A3AB-4AD0-BDFE-BBC0280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01E-B258-43AD-9FF7-0029058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ADC-2A3A-4D45-A32E-013BF039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DE3BB-8936-4FC6-BB0A-D7ECD7049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