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723364"/>
        <c:axId val="74651152"/>
      </c:barChart>
      <c:catAx>
        <c:axId val="397233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51152"/>
        <c:crosses val="autoZero"/>
        <c:auto val="1"/>
        <c:lblAlgn val="ctr"/>
        <c:lblOffset val="100"/>
        <c:noMultiLvlLbl val="0"/>
      </c:catAx>
      <c:valAx>
        <c:axId val="746511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7233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5417-CBA8-4C50-82D9-2DFF31BE8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634D-4CB0-4B86-B666-26277390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B90B-08A7-4373-BACE-70125033E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F013-C221-41E6-9AB0-73032ED12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6FA8-B0CA-4713-9754-CCCD8872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761E-DEBB-4ED6-A368-128CBB3D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F732-B3B2-41A2-B475-31893CA1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C2C8-F678-4C85-8F33-2E56047C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0C3A-BB2A-46D9-9AA0-4980FF0B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957B-4161-4D78-A6DA-7931B128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728D-4844-4508-A583-BADD4B41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EA1A-B89D-4BC1-BBB1-B11F16C7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625496-866A-4F91-AF50-77CB29B9F0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