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40666"/>
        <c:axId val="2154957"/>
      </c:barChart>
      <c:catAx>
        <c:axId val="89440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4957"/>
        <c:crosses val="autoZero"/>
        <c:auto val="1"/>
        <c:lblAlgn val="ctr"/>
        <c:lblOffset val="100"/>
        <c:noMultiLvlLbl val="0"/>
      </c:catAx>
      <c:valAx>
        <c:axId val="2154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40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5870-F5E9-4496-A905-C9E9BDBF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1B8-7CB5-4338-82EE-4A4A338D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91B5-6640-4FC1-B57A-4780CF6A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AE35-7C73-453A-9891-968D1A09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D22-61BE-484B-9A32-5EE42212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377-7303-49C5-B3BF-606E0983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256E-923C-4F72-A8E5-3A4143AD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2DAD-0A09-4231-95EC-57202B19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5946-5A68-4912-A8DD-36F83C95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34C4-2440-475A-91A4-202C60F9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21EF-E4F2-42BB-A5FF-6C811D00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EF32-663A-436D-A627-C12A34B4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D1A3B-D377-4CD4-9105-451AEB95FD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