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45066"/>
        <c:axId val="81880551"/>
      </c:barChart>
      <c:catAx>
        <c:axId val="91345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80551"/>
        <c:crosses val="autoZero"/>
        <c:auto val="1"/>
        <c:lblAlgn val="ctr"/>
        <c:lblOffset val="100"/>
        <c:noMultiLvlLbl val="0"/>
      </c:catAx>
      <c:valAx>
        <c:axId val="81880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45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5EC-4D95-48AE-A2FB-BD9EACC9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2B8-7076-43F5-8BF5-7AEE0ADF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C5F0-6529-47DD-B640-DA378529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B84-FE20-418D-AB31-C327D16B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A34-6437-4D27-89D7-40082078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69F9-0262-44F5-BD00-E03F60D5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154-1266-42A0-84B5-E1E3809F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CE9-DBF8-484D-AEC6-012D56F3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E6B-1661-4440-A7B8-FEF9B73A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2D7-EFFA-4FB5-9BE9-D4D921BE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A03E-2B7B-4108-B1DA-19E9BB80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A52-CAC7-43A5-8011-E30D6E1B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A54CE-A471-4898-A590-895D9A7167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