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18544"/>
        <c:axId val="5898813"/>
      </c:barChart>
      <c:catAx>
        <c:axId val="71018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813"/>
        <c:crosses val="autoZero"/>
        <c:auto val="1"/>
        <c:lblAlgn val="ctr"/>
        <c:lblOffset val="100"/>
        <c:noMultiLvlLbl val="0"/>
      </c:catAx>
      <c:valAx>
        <c:axId val="5898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18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A50-1B3E-4D75-82DC-807F786F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74B-24BC-425A-8887-9A01156A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F3B-6568-439F-9380-5555B982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32A-4DA1-40CD-8A99-00C8ED75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674-9A63-4E6C-90B8-765FA3A0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D4E-D7DC-432C-93C7-D3587C2C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CA3-44C5-467B-9904-5AB64111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1F3-6F7A-4BEC-83DE-7090DCD3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AB4-22BA-4037-8E64-F5A2F73D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D55-BF12-481E-8157-61BA9E2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F9B-88E8-425F-BE56-E34FC93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E26-448B-42ED-980A-54EE52D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A1B6-CC24-47F8-94FE-E35C99447C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