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07367"/>
        <c:axId val="41670811"/>
      </c:barChart>
      <c:catAx>
        <c:axId val="74207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70811"/>
        <c:crosses val="autoZero"/>
        <c:auto val="1"/>
        <c:lblAlgn val="ctr"/>
        <c:lblOffset val="100"/>
        <c:noMultiLvlLbl val="0"/>
      </c:catAx>
      <c:valAx>
        <c:axId val="41670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07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AE0-9313-4910-BB71-28F69988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B15-CB2A-4DC3-B919-2621A5E1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281-DD61-461E-93D6-C02A3801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85C-029F-45A1-B145-BE46D4AE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532-5515-4F12-B807-F753334D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684-BBAC-4464-A1A4-AA649608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7C9-614D-4F98-85F6-6F206B7E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E64-C0CF-49CD-A2FF-CABB0B19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33E-3071-4304-A72A-7836ECC7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128-6612-4830-9C35-DB32B7EF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F04-80A5-427E-84B1-D7B6993D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42C-3480-48F6-BE29-F6B926BA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79F58-A724-464F-9022-224139D6F5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