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43100"/>
        <c:axId val="15016515"/>
      </c:barChart>
      <c:catAx>
        <c:axId val="77743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16515"/>
        <c:crosses val="autoZero"/>
        <c:auto val="1"/>
        <c:lblAlgn val="ctr"/>
        <c:lblOffset val="100"/>
        <c:noMultiLvlLbl val="0"/>
      </c:catAx>
      <c:valAx>
        <c:axId val="15016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43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275-2324-4ABD-8F10-B2825571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0E2-59F9-4D70-ACCD-93127431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350-9B5E-4312-97D0-53D1505C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056-0F95-4CAA-9782-A1AE122B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D11-A057-49AB-8EAB-32590198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17D-64A0-49D8-B159-63ED4C56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376-0237-458A-B018-E7DCAAA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6A1-DF79-4340-97B2-314FC917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C45-F379-4566-A344-8A7188E0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2C8-D44D-42BE-B885-D5927EB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B10-AD47-4E27-8B3F-F8A348C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EA0-2D00-42CD-B870-740CA16D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972D2-C49D-4841-9B4D-57EACE570E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