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72694"/>
        <c:axId val="15981133"/>
      </c:barChart>
      <c:catAx>
        <c:axId val="34972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81133"/>
        <c:crosses val="autoZero"/>
        <c:auto val="1"/>
        <c:lblAlgn val="ctr"/>
        <c:lblOffset val="100"/>
        <c:noMultiLvlLbl val="0"/>
      </c:catAx>
      <c:valAx>
        <c:axId val="15981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72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2F1-566A-4782-83AC-1D8EB96C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04B-3A4A-4823-AE09-426C16F6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34A-80E3-48DB-AAB1-403D17B4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16F-70C5-42D1-BA93-AFC56170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9A9-1389-45CF-992F-F8B58EAB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543-338C-46F3-868C-6B4B4317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917-FD1A-43B0-B0F4-0E94A53A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5B3-F950-463C-9026-DFAD8C00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FC4-139C-46C1-A5A6-2433ABDE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A38-E2F6-4A78-BC78-6B1C851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0FA-6F6C-48B2-9E12-226908D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687-08BB-4159-A27A-2425FB4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A3434-8803-4479-AEF3-2223632FC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