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1454"/>
        <c:axId val="42633186"/>
      </c:barChart>
      <c:catAx>
        <c:axId val="75151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3186"/>
        <c:crosses val="autoZero"/>
        <c:auto val="1"/>
        <c:lblAlgn val="ctr"/>
        <c:lblOffset val="100"/>
        <c:noMultiLvlLbl val="0"/>
      </c:catAx>
      <c:valAx>
        <c:axId val="42633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1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98E-68C4-4A61-8B4E-0578E651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01B-7B9F-489D-A6EA-7CF10EF0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5A6-E738-45AB-9E19-D091A41B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C19-FCA6-41D1-970E-C2D56E03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BCB-55F8-489D-A5C7-1C279A62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C0C-1AF1-416A-9805-B8AF50E6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545-4251-4330-A187-E1CACD9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84D-FB2F-473C-9FCA-0EB8D6F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83A-02F8-4A03-B855-D1F94DB9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3D9-B69E-492D-B4FD-30B32EA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2AC-483B-4556-91C4-4F9642A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DF4-4910-4688-BFE2-2AF03C7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9D0B4-1C12-4FD0-8B80-1463D4A7A2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