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31292"/>
        <c:axId val="22783495"/>
      </c:barChart>
      <c:catAx>
        <c:axId val="41831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3495"/>
        <c:crosses val="autoZero"/>
        <c:auto val="1"/>
        <c:lblAlgn val="ctr"/>
        <c:lblOffset val="100"/>
        <c:noMultiLvlLbl val="0"/>
      </c:catAx>
      <c:valAx>
        <c:axId val="22783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31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1C0-4517-41CF-9DF1-41BC3CF2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A28-B9CD-4E95-80C0-C757BEE1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424-B3D8-4513-A914-3C52F660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F4B-87C0-4B83-AFFA-68FE324A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F1B-D9CE-4777-A6DD-15257DC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007-994F-4945-A567-67678C25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A89-4558-42AF-8E8C-BA8ECAC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7F0-40EE-4C46-8556-40178E2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284-4749-4827-B031-D0D732D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035-B1AB-4EB2-8AC6-3D8FCEF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31E-E073-4E68-87D3-4E0AB84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CC8-476C-48B4-AA65-C4D7DA82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2F417-ACC9-47BB-B2FE-9C73F9CEFC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