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5004506"/>
        <c:axId val="73637360"/>
      </c:barChart>
      <c:catAx>
        <c:axId val="7500450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637360"/>
        <c:crosses val="autoZero"/>
        <c:auto val="1"/>
        <c:lblAlgn val="ctr"/>
        <c:lblOffset val="100"/>
        <c:noMultiLvlLbl val="0"/>
      </c:catAx>
      <c:valAx>
        <c:axId val="7363736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00450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3E2E5-87D4-4AB8-B76F-39B4532E2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89AF8-3CCC-4394-BE18-38224D22D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5C5D9-60ED-4D80-9348-62890D596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FEC73-BCCC-4606-8B19-8F5A99950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45EC2-21D7-4C4D-8021-35388A014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657F4-91E6-4B13-B5FC-936C07A40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65B00-23B3-4071-9F68-6A8DE7D0B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86E8A-79D8-4CFC-A25C-F41D38B73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20498-11C7-4135-BDBA-588E9D7A8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4EAC4-6FF3-41BA-9E51-4B3818ECB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7FF74-C32F-4357-A3CA-FFFB5B2BA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4DB60-632F-46C0-898E-2D19E266B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C94952-CDE5-4FB6-9C18-404CDA494CB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