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98967"/>
        <c:axId val="97367541"/>
      </c:barChart>
      <c:catAx>
        <c:axId val="99798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67541"/>
        <c:crosses val="autoZero"/>
        <c:auto val="1"/>
        <c:lblAlgn val="ctr"/>
        <c:lblOffset val="100"/>
        <c:noMultiLvlLbl val="0"/>
      </c:catAx>
      <c:valAx>
        <c:axId val="97367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98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1FF-A165-4E95-9A8D-6D5468A0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40A-0587-4A1E-8B2F-0CDDB1FC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635-7D44-4098-B712-B7AD03F3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3EA-83D5-4B10-92DE-B950E198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C83-941B-4213-A282-B92B6975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000-6993-4970-8B08-52EDC2D6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835-E331-44F1-9718-B556BFC4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BE2-1D08-4E00-9DA1-EB7B2851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F6F-41E4-4F6E-AC0E-872C9BD2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CF8-F78F-46A0-817C-47CA7581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1B5-197A-4D89-BA14-0498378B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FE2-D4B2-44A1-913C-0F833E95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CA018-1141-4174-AA2B-9E3F05515D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