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604836"/>
        <c:axId val="86748378"/>
      </c:barChart>
      <c:catAx>
        <c:axId val="546048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48378"/>
        <c:crosses val="autoZero"/>
        <c:auto val="1"/>
        <c:lblAlgn val="ctr"/>
        <c:lblOffset val="100"/>
        <c:noMultiLvlLbl val="0"/>
      </c:catAx>
      <c:valAx>
        <c:axId val="867483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048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6A0A-4E87-4371-B6AC-FC33A2A0A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E35D-814C-40A6-A0D5-8D543972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FCBE-70B6-4F9A-85E7-02CB885F8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7D77-2147-41DA-9A07-BC4269D4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5DE1-6E81-4C8C-8E2C-D8B96EA1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9A0D-6913-42FE-BAE1-04954E44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49A9-336D-44DF-BA13-76FC2A4F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9B6C-6F38-44AA-B93F-99AFD79B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B2D8-18A8-4DA8-9354-FF2C9BB2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3BF3-C266-41B9-AD49-9C21E052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B123-FF82-4912-AC58-78054310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C82F-7DBE-468E-A5E4-2A5CC3D1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222DD-E15D-4C85-A8D2-B66C480873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