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29030"/>
        <c:axId val="52748485"/>
      </c:barChart>
      <c:catAx>
        <c:axId val="34329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48485"/>
        <c:crosses val="autoZero"/>
        <c:auto val="1"/>
        <c:lblAlgn val="ctr"/>
        <c:lblOffset val="100"/>
        <c:noMultiLvlLbl val="0"/>
      </c:catAx>
      <c:valAx>
        <c:axId val="52748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29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912-3804-4730-B50F-16CA040C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AD8D-D5B2-44CC-91AD-C1D0C6EA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36A-9614-48E4-AB04-C3857F21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E85-D57A-47D6-88C5-7FA2C595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BCC-F0CB-4776-AAB6-E72D3A3D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8BF-CD64-4E52-A74F-27EA1945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668-3BC3-4342-949B-28454CE3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DEB-C985-4F16-B534-0471281A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601-6A70-45A2-9A07-39D76821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98D-CA18-4045-AB4F-CCAB04A5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A16-C406-4694-9922-03825CFD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B7D-8083-4ACD-A423-F4F51C65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A1340-D3E7-4351-B7FC-6BB4F5EEAD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