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2453"/>
        <c:axId val="32497373"/>
      </c:barChart>
      <c:catAx>
        <c:axId val="24372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97373"/>
        <c:crosses val="autoZero"/>
        <c:auto val="1"/>
        <c:lblAlgn val="ctr"/>
        <c:lblOffset val="100"/>
        <c:noMultiLvlLbl val="0"/>
      </c:catAx>
      <c:valAx>
        <c:axId val="32497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2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B58-067D-468A-A021-39EE58BD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982-1E95-4465-9A07-85888382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037-17D6-45A8-B119-F48F86B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16F-C58C-4042-8E88-E95D5C41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04E-6329-4E22-8C2A-8EE25BE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E0C-1EAB-4898-A64C-EB8D3CC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15D-EF8B-40C5-A096-069EDBC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619-FEEB-4594-A723-89555DA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811-9431-46E6-878D-09BBF3A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5FE-E2FA-4760-8EAE-29DA059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CF9-D791-4DC3-A2ED-30CA284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C38-619B-48DC-AED4-F79CD4B8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C7CFD-BFFC-4534-AD09-CF1E0D13A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