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00"/>
        <c:axId val="26148291"/>
      </c:barChart>
      <c:catAx>
        <c:axId val="62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48291"/>
        <c:crosses val="autoZero"/>
        <c:auto val="1"/>
        <c:lblAlgn val="ctr"/>
        <c:lblOffset val="100"/>
        <c:noMultiLvlLbl val="0"/>
      </c:catAx>
      <c:valAx>
        <c:axId val="26148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5F7-66DC-4C6E-9A2D-C79E05E2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603-8810-4DDA-B9AA-981F5B0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6B5-C1AD-4E44-BE7B-18C06390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9ED-9782-4A88-9140-C2CAE9E8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63A-B2E0-432E-8C61-AB48775C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F46-2FDA-431A-9EB7-33E56CE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31C-9F33-4B47-B4A7-770DACEC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003-2DEF-4646-B6B4-57676DD2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0E6-448A-4DE0-9F01-7F6D448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40D-7830-4821-9B57-EA93825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F45-62D7-47DF-81DD-7F894DE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F1A-1AC9-4E96-B623-D9E7FBF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98084-A499-4BA2-84DB-8626CBB8D1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