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743330"/>
        <c:axId val="71924300"/>
      </c:barChart>
      <c:catAx>
        <c:axId val="45743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24300"/>
        <c:crosses val="autoZero"/>
        <c:auto val="1"/>
        <c:lblAlgn val="ctr"/>
        <c:lblOffset val="100"/>
        <c:noMultiLvlLbl val="0"/>
      </c:catAx>
      <c:valAx>
        <c:axId val="71924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43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5CF-8F39-4140-94E6-683D37ED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983-51C4-4B09-A05F-A9363AED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3CC1-6FF4-4D42-95EB-164EE66C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829E-764B-4909-828A-0170500E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A45D-8353-4292-8989-613C1567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D06-69D4-4461-9BA4-D6CCD868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2DD-2649-4C7D-9618-95A35948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339E-67FD-420B-BD3C-CF9544F3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90A-9026-468E-9064-D7868E7B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1D3-698D-4E54-926A-4C499F90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274D-26A3-473D-B9AC-D076A7C7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5766-466A-4500-AFF2-48B1A4B8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6121F-96AA-4AD3-8362-14F84B86B9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