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59765"/>
        <c:axId val="61995523"/>
      </c:barChart>
      <c:catAx>
        <c:axId val="69559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95523"/>
        <c:crosses val="autoZero"/>
        <c:auto val="1"/>
        <c:lblAlgn val="ctr"/>
        <c:lblOffset val="100"/>
        <c:noMultiLvlLbl val="0"/>
      </c:catAx>
      <c:valAx>
        <c:axId val="61995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59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57C-CDCC-4D69-B9CB-F29F4E3C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687-46D1-41E7-B7EB-D4B10936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EC1-5671-4B36-810E-057951F0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F44-757C-4666-BB8A-5888A8A4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82C-F81D-4C46-ABCA-69A325B2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E0D-71B0-4A01-BC40-D8C1F2E2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13A-0315-4EB3-9D24-3ECBE0DB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23E-0C8F-4777-9785-2F45D7BF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343-5EA2-4365-B0FE-B7068A35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FE7-4F8D-4DF4-BAB0-78E31A4F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00E-449F-48A4-B080-496B8011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09CC-41E1-406F-9285-EBF1964D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D53F9-1447-464F-8657-851C46400D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