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71345"/>
        <c:axId val="78076328"/>
      </c:barChart>
      <c:catAx>
        <c:axId val="68271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76328"/>
        <c:crosses val="autoZero"/>
        <c:auto val="1"/>
        <c:lblAlgn val="ctr"/>
        <c:lblOffset val="100"/>
        <c:noMultiLvlLbl val="0"/>
      </c:catAx>
      <c:valAx>
        <c:axId val="780763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71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47D-ADB9-4DE3-8934-0FBB0CB8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CA89-0666-4A0F-8F51-D0380B41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864-EDDB-430B-B0AE-FBDB0B49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9AD1-D56D-4115-B35B-3D68DB76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886-6713-4566-A28B-4159488C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6B7-887D-48AB-8E9D-97D23B3D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9F1E-243D-4272-B9D2-7F8967BC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B61E-DBBE-4B06-A17D-B47FA07B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DC8-2924-4B79-8962-814D90BF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5586-026E-467E-AE2D-C7305E03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2BB7-5C80-4D0D-9057-E051CFCC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68AB-CE4C-4BE8-B33A-79A82121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7E5FC-7E60-4257-B4C9-4F81BFF288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