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63267"/>
        <c:axId val="21506614"/>
      </c:barChart>
      <c:catAx>
        <c:axId val="34863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6614"/>
        <c:crosses val="autoZero"/>
        <c:auto val="1"/>
        <c:lblAlgn val="ctr"/>
        <c:lblOffset val="100"/>
        <c:noMultiLvlLbl val="0"/>
      </c:catAx>
      <c:valAx>
        <c:axId val="21506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63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28D-B812-4026-9911-999FF77A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C312-D17F-4A99-94C2-10152773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8CB-D849-42F4-82B2-968637D9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D60-6067-4CE7-BCEC-6CE8F0E6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E27-6120-4950-9774-62EDD4B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9F4-C966-4C51-B791-95BC7C4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1EE-5A20-40BD-B60B-BC7BE1F7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4FA-0C5C-45B8-B8C0-9A8C1A8E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23C-5D4C-4BB3-955F-33AAF6DB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4FC-F08F-4390-A5C1-91D3638B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392-B9B4-4117-A072-4F183A7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182-237A-44F5-8233-45682ED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91C7C-5F33-4119-B532-12A5C9DC7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