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6712"/>
        <c:axId val="67864081"/>
      </c:barChart>
      <c:catAx>
        <c:axId val="4746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64081"/>
        <c:crosses val="autoZero"/>
        <c:auto val="1"/>
        <c:lblAlgn val="ctr"/>
        <c:lblOffset val="100"/>
        <c:noMultiLvlLbl val="0"/>
      </c:catAx>
      <c:valAx>
        <c:axId val="67864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6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39B-3639-4D88-A6FF-6463138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B9E-D576-4BEA-AABB-D1553A4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DBB-0F92-4D59-A508-E9AEFE6B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B3A-EAFC-45C8-9796-95039FD1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EF8-DF41-4F80-A604-FEEDA3C8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E2C-C479-405A-9167-8DFBB36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2D7-06C8-4169-9550-328F6CF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52B-A944-42D5-B28E-BC89620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DED-9F16-4F91-B453-EF94A09D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67E-D2E2-4B45-9624-99A8125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952-FFC4-48C5-AD07-9FDB5A9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02-7820-48B4-B9E9-148FA95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E3D8D-E361-445B-9703-89C0CCD27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