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074892"/>
        <c:axId val="88241622"/>
      </c:barChart>
      <c:catAx>
        <c:axId val="470748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241622"/>
        <c:crosses val="autoZero"/>
        <c:auto val="1"/>
        <c:lblAlgn val="ctr"/>
        <c:lblOffset val="100"/>
        <c:noMultiLvlLbl val="0"/>
      </c:catAx>
      <c:valAx>
        <c:axId val="882416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0748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4285-3901-40E3-B4AE-715B68E3B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AA62-FC78-47FA-A532-92A4E8C60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EF0C-C822-4DF5-91D6-85593DC63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B6D6-1CDE-4768-AB22-778451EEC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2692-D382-47B1-B7D8-5D2F747A8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943B-F126-42DB-811E-55FB3D6EA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9512-3E1C-4CA7-A770-0B9F720D3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83E9-0E0B-45F3-BF1E-D6C7F17BE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FC82-BB09-40D1-BF12-76FA11BC5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F3FD-D580-494D-8FC3-B35FD3A2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3235-BDA2-40C9-9A17-D3B64EADE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57EA-2E84-4DA3-AFEB-127C506E4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1A6FEB-C3BC-4183-95C1-D8B206D3874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