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30632"/>
        <c:axId val="79841727"/>
      </c:barChart>
      <c:catAx>
        <c:axId val="89630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41727"/>
        <c:crosses val="autoZero"/>
        <c:auto val="1"/>
        <c:lblAlgn val="ctr"/>
        <c:lblOffset val="100"/>
        <c:noMultiLvlLbl val="0"/>
      </c:catAx>
      <c:valAx>
        <c:axId val="798417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30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45C-61C8-4564-9A73-C381A316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67E-2CB7-4099-8B1A-A7CD73B2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1C8-E937-4A51-B123-AECDAB89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50E-A89D-4DFE-A088-D702E0FB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625-8908-470A-A461-CC87CA02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7E9-FDA9-4D97-B0A7-B97BB967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D5F-C955-4DE1-896A-6EEFD371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A82E-5053-4964-83B8-6DF507AD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E57-26CE-4B04-9F24-4F2802FC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2F7-FE28-46FA-88B9-D381256E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324-FCF0-4AEF-8A7D-204F73C7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06A7-22AF-4562-8378-0B6AC3D6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8933E-EB1B-4FD8-8FAD-915439F4EB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