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62147"/>
        <c:axId val="95698839"/>
      </c:barChart>
      <c:catAx>
        <c:axId val="59962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98839"/>
        <c:crosses val="autoZero"/>
        <c:auto val="1"/>
        <c:lblAlgn val="ctr"/>
        <c:lblOffset val="100"/>
        <c:noMultiLvlLbl val="0"/>
      </c:catAx>
      <c:valAx>
        <c:axId val="95698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62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7F3-A24C-4830-B412-B356C552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E9E-6561-48AE-A5D1-1017F30F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CC2-B9A1-46C4-8268-E036B958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921-6250-4691-908A-9BE9EFB7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EAA-EB84-4EA6-9316-3269AC73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300-6B60-4F7F-9ECF-723F1CEB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EDB-6337-4272-BB9B-77922FB4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861-7C6A-4272-8745-9D76B22D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0ED-C4E9-40AB-9C17-D2B50D04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652-E140-4D80-B96C-67E5EE53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269-55CB-4163-8B03-31DCFDF7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299-BED4-4238-92B5-C582D1C7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FC6D8-F4B5-421C-82C0-4814025166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