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8062"/>
        <c:axId val="15800809"/>
      </c:barChart>
      <c:catAx>
        <c:axId val="63780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00809"/>
        <c:crosses val="autoZero"/>
        <c:auto val="1"/>
        <c:lblAlgn val="ctr"/>
        <c:lblOffset val="100"/>
        <c:noMultiLvlLbl val="0"/>
      </c:catAx>
      <c:valAx>
        <c:axId val="158008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80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7EF1-1BBD-46CC-981A-1B77925F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F9A5-3BC8-4F24-9727-79CFA864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C67-3299-41E0-9F39-2ED7B219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C2A-4893-42DC-B293-757569C4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63EA-B18B-4D56-9CC1-3C7AEF7C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6664-B347-4942-982F-056B9C3C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192-123F-4396-99D3-26A7B2F2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8755-FE97-4DB5-912E-D9754B6F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8AA-3F81-4D63-B4BE-DA6E969E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34FE-F7BB-461F-ABD5-F866ADD0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9E39-13FF-4E44-89CB-BD318D44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F474-93FC-46EA-951C-25A5CA5E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50142-5493-441F-9C38-C5F66DC961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