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310646"/>
        <c:axId val="89907104"/>
      </c:barChart>
      <c:catAx>
        <c:axId val="931064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907104"/>
        <c:crosses val="autoZero"/>
        <c:auto val="1"/>
        <c:lblAlgn val="ctr"/>
        <c:lblOffset val="100"/>
        <c:noMultiLvlLbl val="0"/>
      </c:catAx>
      <c:valAx>
        <c:axId val="8990710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1064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0044-C327-442C-B638-E7A92931C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4E3B-0F82-4037-92A3-52C8CF431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3A08-BDF4-4A30-8617-49E378604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ECFC-EDF1-4A19-8AF4-229E0471B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EC32-E83C-45E1-A531-BFF9CDA1A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26DB-D42F-4026-B20D-8F1EEF2B7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99B6-8D3B-4C8F-A49D-EBCA14CC3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C4D9-024C-4360-AB77-0DF0167D9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0524-D39C-4564-96A2-E93E6C36D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3416-BD08-4F73-A740-9FF084B6D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DB17-2696-4A74-8A5F-9ED99A567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1EE1-A044-4FDD-86A1-D05DC377E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80F0A9-B7E4-4AD0-BBCE-F75327B364A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