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539858"/>
        <c:axId val="61126937"/>
      </c:barChart>
      <c:catAx>
        <c:axId val="495398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126937"/>
        <c:crosses val="autoZero"/>
        <c:auto val="1"/>
        <c:lblAlgn val="ctr"/>
        <c:lblOffset val="100"/>
        <c:noMultiLvlLbl val="0"/>
      </c:catAx>
      <c:valAx>
        <c:axId val="611269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5398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3B15-6E20-44CE-8843-BC53D757E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018F-0677-4542-8B34-03B5CD899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7B83-4016-43C0-AF26-9FF72C3EE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198E-BF15-4180-BD53-79C321E6B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711A-8A3B-472E-B350-3E8F5A96E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8577-DE45-47CA-B65B-5297E8B78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170E-7999-4F65-A75C-80D894A73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FC61-DD93-4762-80F5-9AE83BE3F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B15E-9BE9-4644-BB5D-7A5000C7B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E4FF-7FF8-4114-B324-4FBBF3DA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CFF8-1355-41C9-A77E-CC1B6745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6A66-46B5-4AF7-A826-3598FF9C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A9131D-9DA0-4785-8A71-C61E9083495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