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68654"/>
        <c:axId val="71909505"/>
      </c:barChart>
      <c:catAx>
        <c:axId val="6856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09505"/>
        <c:crosses val="autoZero"/>
        <c:auto val="1"/>
        <c:lblAlgn val="ctr"/>
        <c:lblOffset val="100"/>
        <c:noMultiLvlLbl val="0"/>
      </c:catAx>
      <c:valAx>
        <c:axId val="71909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6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CCC-7CC5-461F-A604-11E94F43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782-450E-44FC-A5A8-EEEA2D4D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11C-A808-4EE4-B3EA-A8EE7E95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CAE-B83A-4839-9F63-3BBCA70B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4EF-2478-4C28-8901-4ED60FDB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C5F-BC17-4F80-B26C-B1C56B1B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649-C92B-4F29-8539-A11E20C0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5A7-A2CC-4DD0-9FC5-7EB7AE35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BA4-DA85-44B8-84FF-BDD40AD5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7C6-D087-4826-B9B4-52C66A80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76F-99E0-49A6-8B71-DFB1EE7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BF3-A752-4459-AF13-A60F0DA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60078-EA18-4EE6-A1C4-80C99B1310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