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55475"/>
        <c:axId val="65912145"/>
      </c:barChart>
      <c:catAx>
        <c:axId val="39555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12145"/>
        <c:crosses val="autoZero"/>
        <c:auto val="1"/>
        <c:lblAlgn val="ctr"/>
        <c:lblOffset val="100"/>
        <c:noMultiLvlLbl val="0"/>
      </c:catAx>
      <c:valAx>
        <c:axId val="65912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5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CE9-36C4-4AC4-8B64-F746DECE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F30-1493-435B-B3EF-580EE416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A82-CC20-4B58-9FA9-4028CF4D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D0B-0987-4A8F-9AB1-B16CFF22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C04-C7E1-41B8-A3A2-A5F7DB4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960-01FB-4C19-B97B-6C85BB01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CC3-1A10-4148-9826-0A102CC1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FC9-5C91-49EC-BEFA-E5D8668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B08-9EEB-42A7-9C5F-D898EB9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966-4B5B-4216-AB7E-D36C32B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704-B112-45F5-A32C-4BAEA518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F2F-7D39-44EE-B2A6-F512992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079E1-0299-47E7-9D2D-17CAB92202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