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57343"/>
        <c:axId val="22174643"/>
      </c:barChart>
      <c:catAx>
        <c:axId val="90557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74643"/>
        <c:crosses val="autoZero"/>
        <c:auto val="1"/>
        <c:lblAlgn val="ctr"/>
        <c:lblOffset val="100"/>
        <c:noMultiLvlLbl val="0"/>
      </c:catAx>
      <c:valAx>
        <c:axId val="22174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57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690-F217-4AC8-801D-3AC56277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481-6E7E-46DD-B67A-249F8F75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21F-CBA9-4D38-BEFC-88F131D4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CFC-4B5F-45CC-870F-522E5576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249-F023-40C8-9348-36DDEEA8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00F-335B-468F-BE17-4392C6AC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FB0-C0E2-4047-83C6-71412F3B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5D0-69FB-4050-A661-9EB61EFD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CD7-B67D-4BC0-8C38-0A2EB21D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733-CE69-48C2-93AE-36362692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ED8-F410-485C-9658-DA35704D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B7D-D0AF-4079-8D5F-21DC8505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E79F2-21EA-4501-B107-4FD2EDDD09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