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76463"/>
        <c:axId val="75276274"/>
      </c:barChart>
      <c:catAx>
        <c:axId val="25076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76274"/>
        <c:crosses val="autoZero"/>
        <c:auto val="1"/>
        <c:lblAlgn val="ctr"/>
        <c:lblOffset val="100"/>
        <c:noMultiLvlLbl val="0"/>
      </c:catAx>
      <c:valAx>
        <c:axId val="75276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76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0B7-A1CD-4B68-8189-52AF91D4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E6D-DC29-4D67-93A4-0E6C2D9B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DE9-1640-4223-87DB-A7562B66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2DB-B6F5-4DA5-9D0B-8F7A9180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6A3-7EE3-4E21-BA12-6DB6CA07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C5CA-4903-402C-A1C0-2C7121D0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364-8420-4EAE-B0FA-87DED511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28C-9E05-47CF-9613-85A67C3F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F80-C8A1-424E-ACC1-7F831A3B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122-32A9-405D-8BA3-45E6CDB5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E46-441C-4490-9A23-1018BE17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8F57-28F8-4BBE-88C2-B5E530D9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78733-6295-47C0-BF5D-5076432372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