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569979"/>
        <c:axId val="6676270"/>
      </c:barChart>
      <c:catAx>
        <c:axId val="35569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6270"/>
        <c:crosses val="autoZero"/>
        <c:auto val="1"/>
        <c:lblAlgn val="ctr"/>
        <c:lblOffset val="100"/>
        <c:noMultiLvlLbl val="0"/>
      </c:catAx>
      <c:valAx>
        <c:axId val="6676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69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76E-D8DE-4736-A66C-469F2F41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FB0-92F5-43F7-B57E-2B8D045E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5BD-EC50-4F06-A38D-29160F88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6F8-AB03-4945-8B60-5836F025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551-884D-4882-85E8-0C58B218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D79-03BE-46DB-94A9-0B4300C7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70F-303D-4740-A08C-FDCF298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961-0FA0-4347-9046-96259CD3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B99-4471-4E2E-B371-69E17860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C49-C35E-4AC9-AF48-97B75EAD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4AB-C8D8-458C-8CE6-CB59C56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98E-3497-4833-8978-9E02086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C307E-21D5-4E36-BB91-7B3A87C1A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