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383649"/>
        <c:axId val="43640675"/>
      </c:barChart>
      <c:catAx>
        <c:axId val="173836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640675"/>
        <c:crosses val="autoZero"/>
        <c:auto val="1"/>
        <c:lblAlgn val="ctr"/>
        <c:lblOffset val="100"/>
        <c:noMultiLvlLbl val="0"/>
      </c:catAx>
      <c:valAx>
        <c:axId val="436406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3836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C4D1-C631-4E2E-A752-01BCBAC2B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D699-0CE2-4CF0-96E1-F1AB12FA4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FFBF-1D4C-42F6-93D4-C718C1440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21AC-CD82-4AFA-9509-91957F94F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6EA4-120F-418D-B79D-6B18DE353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8B8B-11A0-441B-AA74-0B9278C4F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B0A5-2F79-4E0B-9EC2-9FCBBB744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3657-E8F2-4E7D-B662-FEAB8AAF4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875B-6AA5-4541-BAEC-B100F4679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1072-70FC-4440-9A41-D36C73CE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5F76-380C-4F05-BF5F-2BCBABF9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F23C-A187-46F2-813D-5B13C5C8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09D443-835C-4AE7-B4CE-FF8F56A889B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